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315-79AC-40D0-A997-E7BB2FAD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B98-0511-485A-887D-D534B43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F9E-4F20-455A-AA25-7213C42B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33E-E557-482B-8A43-6FF7CFD0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53B-4D61-40D2-876A-1F5CBAFA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5C7-9A34-4CB9-8311-D4F3882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29E1-06DA-402F-B113-C1F4A0D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84B4-CAB6-4348-B16A-0119AAC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9E78-276A-41E6-8860-A7F010AF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9A05-ED94-4FEA-8DD8-A5D161F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C4E0-0782-484E-84E8-81AA22E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32D-F082-4D29-B37B-734AA80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F8F-6DBD-4268-9083-08F4052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C210-FB1F-45AD-BF14-418156E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9F1-9A05-4D86-AF3E-269D9117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0F2-D2FF-4E4F-B66A-70EE027D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E8A-D3A0-4C32-BD87-7F8E921F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9DF9-8F98-4FE1-AE2C-55B6AB63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1877-44D3-4E69-945B-B0386B5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5809-90B0-4BC0-A127-D8FEA621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E3DF-38C5-4826-8DF3-5EF202F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A148-2367-41F0-99C7-A6B62577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406-A900-4A48-840C-22ED226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6B5E-6B7B-4D2C-ABE7-6BEE4BB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5153-A782-4032-8028-B1D65EB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F4EE-F906-49D3-9AFD-CDB1B68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37BF-8EA4-46B3-976F-DB64BB6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9924-55C6-4C0E-B63E-3F099C9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B09C-0626-47A1-9B20-40FFA9FA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3766-9361-4FC8-A5A2-03EDED21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88B3-75C7-4451-9967-F9DED3B9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6427-F669-4E68-88EE-650A915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3921-0480-4A1E-B444-610168E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7F8-EC9E-452D-9119-CEE7499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B394-78E0-4C9E-AF82-9943E8F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33E2-12DC-4155-90A3-6AE7299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E237-3FD7-49E8-BBAA-2C291C2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2EF5-4AFE-4E0C-9542-C4B7284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82A1-FF57-4EBD-A9B8-564ECA56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2E22-AA0A-4814-A9AD-04A2BC0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C1AD-4F69-49FC-A816-47380348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9E9E-D398-4468-9FB4-10241569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EC33-E77D-42F9-86ED-7B8DD8BC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B7CD-54F3-41EB-A1EF-6BAC2AC1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18E-A43E-4B14-8091-63625726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2D49-9732-4448-BE90-A9ECC85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8AD3-841A-447B-AEEC-A0BA680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CB3D-EDA2-4DD6-A6B1-C3EDA84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AC6C-3693-4683-9AD2-6BDE6B95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0EB2-4C7A-4E05-937C-F3502C8B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46CE-D778-43E6-9D43-E91C09B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50C57-8484-4142-AA18-C8FEC5F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F132-4DFF-4ACF-BCD7-62D8D10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A361C-B2A2-427E-8130-6739226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6E9E-339F-49ED-8956-87C44546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0F4-AF4B-435E-B84B-7FC3857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14F7-D26E-4A63-B986-A51948FD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FA33-E5B8-496F-AABD-35D07BDD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9F7C-DB69-478D-81CB-66448CA3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31107-4386-4787-8C4B-72A6F64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83B2-AF66-4406-8AD6-7F1B3CB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D90F-B910-453A-9486-A12493C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FF7C-7A73-4A19-A33F-DC5A3A61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C1CF-240A-437F-873D-9A055FF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64C9-A48C-449B-B77D-6EFD749E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018BB-F888-4D21-A60B-3603594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C89-3084-46BA-91A1-D96EDEE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FDBC-C516-42F3-AC76-3FD4B435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B7C0-FBD1-4D3E-838B-38B51A6A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D82A-B1C4-4C2A-868E-8E19AD7A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EF5E-7315-42D9-B056-3F8995F3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6516-8A03-4780-9B8C-CFB8F5A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B793-3BA7-47DC-A86B-6F5CEBD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72E9-DDEE-41F6-8906-55D5C7CB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579C-FD50-44EF-8537-B410581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2287-44C9-4177-BBEA-5D786F3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D87E-732A-495F-B260-1867D30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5AC-DFFF-464C-86A4-F5A6612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3A517-D033-46F6-B578-67EB61B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81C57-9BA0-47B2-873B-ECA31B0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B58E-76E3-43A4-A07E-D97862CB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98096-8B23-4EC1-80F8-A7FDF0D8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06BBA-FE13-4950-A4CA-2754486C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15D8-85AB-4BDE-9513-DCF6B3B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BED1-3A0F-4687-A06B-492D145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57C5-3C06-47F5-A375-62FD7F83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A54E-3E1C-450A-B30B-4E86C0C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3D483-72D5-4C9A-99F4-B508084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0C3-D70A-44D4-931E-6A6F8A3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505E-CD74-4BA6-8B8C-86E496D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19F3-6CCB-478A-8DAA-2B36B6E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1AD0-EAF1-478C-ABD4-7EB780D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4586-0425-4541-828B-F383221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4A098-9CE3-4C76-9893-0670A6CF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7311-8DA2-4F54-87AE-48B101F2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6F56C-0CBC-419E-B518-E0A42E9B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E24F-1D1F-421B-B6BA-FCEAF955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E43-AEFF-4D77-B31D-2C3B4A1729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F03-C32E-4DEE-B716-E642C103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223A-A956-41CD-8080-7E539147E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C8FB-6702-48E4-98A9-C0AB92DF4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DE16-A339-4A62-A0C5-348519F7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F01-7467-4F39-A450-5CBBDC06E53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6E6-3E16-4F0B-9B2D-A51169DEFC3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444680" y="933480"/>
            <a:ext cx="613260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378000" y="1085760"/>
            <a:ext cx="779616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78000" y="1517760"/>
            <a:ext cx="7785000" cy="3822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378000" y="1096920"/>
            <a:ext cx="7723080" cy="5389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530280" y="822240"/>
            <a:ext cx="7815240" cy="5054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378000" y="884160"/>
            <a:ext cx="7815240" cy="5675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298440" y="1096920"/>
            <a:ext cx="7797960" cy="6681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-6480" y="1292400"/>
            <a:ext cx="7858080" cy="5346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7735680" cy="4718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7796160" cy="444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7705440" cy="3822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33:40Z</dcterms:created>
  <dc:creator>Brandon</dc:creator>
  <dc:description/>
  <dc:language>en-US</dc:language>
  <cp:lastModifiedBy>Brandon</cp:lastModifiedBy>
  <dcterms:modified xsi:type="dcterms:W3CDTF">2009-03-17T06:06:45Z</dcterms:modified>
  <cp:revision>22</cp:revision>
  <dc:subject/>
  <dc:title>Rich Dad, Poor Dad Chapter 9 </dc:title>
</cp:coreProperties>
</file>